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8F3-E965-4070-AD2E-70005DBC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D75-77E0-463E-873C-64CAE73D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14CB1-F8E1-4844-8518-B6A07FC9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BE639-4B1D-4A50-9A1B-8929CA30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E955-3050-424F-B6AC-BF8D4C6C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F94F8-8160-45C2-A3B8-8A4BB1B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ECF9B-19A9-4364-8027-6AB1E85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2956C-7972-4D64-AE99-2C027AE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CD7D3-C170-4E3C-9FBA-5F6169E7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D6DA-077C-4A67-A7CB-52304F25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06480-1C58-45EA-8AA7-71E8DB9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DC633-33FA-4FD1-BCC5-696101C7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9C3-93B9-4FFA-A406-4E4B1D78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12EF6-CC27-404E-BD27-B4BDE690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A777F-00A4-4536-963E-4391D4A7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3F19-EE64-47EA-91C1-A6B055E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E5438-2E64-404E-B587-F245E8F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791AF-B993-4FEC-A973-D706F05D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B804-9380-49D9-9CA1-C32FCB62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98D99-3E67-47E3-B93A-CB6B9DF2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8BA1-A181-4B88-AB81-DFFD4D3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76811-BC6E-4E05-912B-84352327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B9A1-DFE1-4164-B23C-7F949F0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C42-3718-4F45-8E06-1DF980F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6B550-7875-43B0-94E7-048A4226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9688-62CE-4A35-9D83-D1A034E4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526B-D7A0-45AC-A588-180F8A7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8BD28-E230-46B4-A670-E2CDD217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F3F17-D9B2-40C4-81EF-E04941A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961D-B93F-4518-88DF-8B8F0113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0A8C-D5DA-4F28-9FB9-5A2D690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CABA6-0BC0-44E3-8659-58C7FA38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C5C5-9B93-4FB1-BB1A-29108BC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19C6F-3D2C-4E82-86A6-0915630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4599-2779-4EB8-A6F8-0D7E522C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E020-8EB9-4DDA-975A-707D26A0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9C1FB-436F-404B-A119-56D45FB0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4367-7ABF-4AA6-A630-EA0D16BC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8CC3-E846-47F1-AEB7-4E5DFCBD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8BCC-8C6C-4F11-BC14-F4906CA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77D90-3B15-4322-9970-C032EBF4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B5AEE-237F-43CB-A594-0EED261F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FE1D7-78DF-4831-8EA3-72C0ED27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D81BA-AFD2-4F9C-8A28-65FB868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8661B-70CE-4C06-8D2A-BF455DE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F92C-A134-48E1-A386-2D16F951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E5FA0-DE1E-4A44-8B8C-6277310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4834-AE68-4F81-9206-6D47341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9E83E-5945-40D5-B14D-2F9BC9A6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A11A6-A3FF-4E81-B65B-DCC90788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97475-EFF1-4DDC-A00F-2034E67D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E702-8745-4158-BC0C-526843EF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D50-F85D-4FFE-8E61-3B9B6EB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30A-0033-4B76-B013-7E81A0D1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05E9-91ED-419D-A31C-B27F72A2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F87-1500-4635-B858-1ACF45B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2B8-12E1-4AD5-AB9B-4DED1DA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080-E455-4B5B-929B-81C6E27A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213A-9CD8-4D36-BCCA-A5E1292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891F-793C-4842-BDD2-0160CA71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692-9BBB-470A-9C24-D33B1CCF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0E9-8FF0-4B88-A072-18BF3199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CA51-5122-4965-8785-24E7D97C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BB4D-55F8-4234-9A23-EA62203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0AB5-2DE3-4784-A0CB-4995F373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D2F2-16AD-4F85-9BF9-74CDC6A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49765-06E9-40FE-9A0E-2F80FBE3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EB8-7CB2-4BAE-A2E1-FF8B7AA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F3C7-92B0-4130-87F3-8BA2F60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F57C-F784-4D2B-A243-1466A60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83DA-4526-4E5F-9EAC-B78A4CD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C87F-5DD1-4D26-A3BB-E85B55D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EF42-5293-4EF2-B828-2D9EB2B1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990F-A095-462B-8730-B76117B8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CED1-303E-48A2-9FEA-39E6183F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8E1B-0A06-478C-9FDA-C8B4588E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0DF4-7303-4600-A421-040C221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7F9D-FA84-4B9E-A2DD-16C1AAD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6C5-C89D-46E1-B44B-4B8227F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A1703-B563-4B1B-A2E7-D05D93A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F0D7-5EAB-4D29-9B0B-6625E467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65FD4-B81A-46FC-A5E9-DD031AA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6E52-7919-4B47-ADAF-439C2E0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F47F-475D-4BC8-992F-1B73CDE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33E5-8908-4881-85B3-AD46453C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A345-EC34-4BFA-A305-154A752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51AF-D50C-40BB-A241-AD050FD2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2EC6-4D6C-49AB-85BC-988B442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C709-D9A0-42D3-8EA1-01B03ACB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22A-249B-4245-A6B6-2F5C3E38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22E4-3403-428B-842F-A571E9B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C77A-0B1D-424D-AC24-1563F9E1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C664-E5AE-466A-B95F-8EA4D44E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10D9-33B0-4A66-908A-F0FDCFAC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3F794-E55F-41EB-8E93-9132C9A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EB1D-63C0-44FC-9774-D98AAB4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7AE5B-3ED2-4C60-9E53-0E9CE61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0936-CD3E-4730-84A0-A8889A7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F593-7E27-4399-91C9-A752E21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9001-047E-446A-A961-FFAAD349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58D-244D-40CE-9DF7-715C9E0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CD87-AA58-4623-A8BD-DAB0BD29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AF71-226D-4838-98BC-1D335CDF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6672-E508-462E-84FA-B2F88C1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6664-6E54-4999-A7B4-14422C5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F4CF-AB4F-4607-A4FC-91ED957E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1091-CE4A-44D8-8C7F-7CE49C27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81B0-6285-4816-AC22-F262F806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FEE7-36A1-440B-97FB-6F83CBC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2F5D-5ADD-4CFA-9C62-665C62A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2127E-E1B7-4B71-AD5E-FA4C6DCE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F10-1DD7-42DA-B1D0-AE642D5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52D6A-CCCE-4B14-9489-C0CD2B52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B745-A986-48EA-AC28-0B95746A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C47B-1E82-44E8-A467-5E96556F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9E79-FFC4-4BB1-9645-473EC4DC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FBA4-11AF-486F-B27A-5C3F28F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F3B64-AA7A-4FF9-B78D-E591288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8862C-08E7-4E7F-B6ED-B868FD3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6862-8BF6-48E8-AA68-D105277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31F2-BAC3-48E5-B2A3-DA5D1DA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A0F4-BB83-414A-B6CF-F5A0E5F7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007-802C-4D01-A820-9052A9C9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FD404-67EB-477E-998E-BCE4E1E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1116-AEDF-4C30-8A92-8BB9148F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4D33-FC6E-4924-A0E2-48E1C722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0390E-3380-4B07-806C-D7E1E7B1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B375-1E5C-482D-A533-BD05425F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8380-B9E0-4032-9161-6D1CBC3A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1334-55C3-4A43-A3AD-1613C9DE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0ADC1-3C12-4F12-A624-3FA2139B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3C6C-765A-4A4E-B539-A418F77B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EEED-B898-4884-9637-FAC376D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678-0FE5-4226-B0E9-F09CF61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D2A9B-AF8A-4525-9F59-14D8C2C9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6A33-F555-4F90-ABFA-35FFEE75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73D7A-675C-48A4-89FA-90B39A6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D948-22BC-4CED-9F34-999C5D6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E955C-9D6C-4096-AA9D-F9D33F00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8DBD-3BFA-4A76-93B4-55A8F672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15664-57FF-43D6-9019-EF041F4C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D669-1BB4-44C2-9760-7567391A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92BF2-F7FA-4D7C-80CB-3A101EC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F3AD8-9FA9-4CFE-9E27-29F6ABC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8CD-C92E-4D23-BB25-51C169EA38C5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009-9E51-4D3E-A33D-AA208DB72A8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523-A560-4FBB-A358-219DE4DCA872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A61-499C-42BD-A1CD-55977284E36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E47-31EA-4B5A-BDE6-D82E2BCC7CD1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D327-E65D-45ED-AEA5-2A6B16D0DA3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95F-A88A-42A5-AAC7-E6AC53BF44AF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C03-C389-4535-9A69-9E8FF84A94B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94E-AD26-4765-A172-813BC6F0F42C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9FC-FB8C-4074-A67D-CA51294D504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592F-A5A8-4654-9DC2-65CF23430185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582-25E8-4091-82D7-D5EC1E9BA1F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0C5-C32C-48F9-861E-BA1B7704F016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5B0C-1909-42F3-9150-CDB90E5F473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3E7-DBC0-49FE-86A7-4DC67497404D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37E-2D98-4CF1-9C65-BFFB5AC2753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5F29-214F-4EBB-BA66-DF4E0139DC01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B360-1A9F-492B-82DA-496F9AFBB56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05B-BD06-4714-B1BE-A828404FE4C9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8B2-C741-4230-8265-74247FCD53B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3E8-41AE-4BB1-BF81-7883614B4A2D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A4D-DBD2-463F-ABB7-92F724173C9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3AF1-EFF4-411A-A739-9E132A1D150C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9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69E5-8E12-4261-A938-27B6314EC7F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LES CONJUGAISON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S (REGARDER) ___________ TROP LA TÉLÉVISIO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REGARDENT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TROP LA TÉLÉVISI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d4d4d4"/>
              </a:solidFill>
              <a:uFillTx/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LES ENFANTS (OBÉIR) _____ À LEUR MÈRE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ES ENFANT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OBÉISS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LEUR MÈRE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OUS (NE PAS RÉPONDRE) ___ ______  ____ À MA QUESTIO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OU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NE RÉPONDEZ PA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À MA QUESTI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PARLER) ______ COURAMMENT LE FRANÇAI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PARLE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COURAMMENT LE FRANÇAI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(ROUGIR) _____ FACILEM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ROUGI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FACILEMEN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U (ARRIVER) ____ À QUELLE HEURE?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(VENDRE) _____ TON AUTO?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VEND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N AUTO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S (JOUER) _____ AU FOOTBALL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JOU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AU FOOTBALL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(PERDRE) _____ DE L’ARG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PERD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E L’ARG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Ù EST-CE QUE VOUS (HABITER) _______?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Ù EST-CE QUE V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HABITEZ?</a:t>
            </a:r>
            <a:br>
              <a:rPr sz="66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 (RÉFLÉCHIR) _____ TOUJOURS AVANT D’AGIR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RÉFLÉCHI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JOURS AVANT D’AGIR. 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RRIVE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QUELLE HEUR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(ÉCOUTER) _________ BEAUCOUP LA RADIO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ÉCOUTE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BEAUCOUP LA RADIO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NE PAS RÉPONDRE) ____ ______  ____ À MES TEXTE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NE RÉPOND PA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MES TEXTE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AIMER) _____ CE FILM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IM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CE FILM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CHANTER) _____ TRÈS BIE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CHANTE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RÈS BIEN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VIEILLIR) _____ TOU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VIEILLISS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(CHOISIR) _____ UNE ROBE BLANCHE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JE (CONFONDRE) _____ TOUJOURS LES DEUX NOM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J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CONFOND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JOURS LES DEUX NOM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TTENTION! CE CHIEN (MORDRE) _____!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TTENTION! CE CHIE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MORD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NE PAS VENDRE) ____ ________   ____ DE SOULIER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NE VENDONS PA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E SOULIER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(APPLAUDIR) _____ L’ACTEUR.</a:t>
            </a:r>
            <a:br>
              <a:rPr sz="66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PPLAUDISS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L’ACTEUR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CHOISIT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UNE ROBE BLANCH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NOUS (TRAVAILLER) ______ À PARI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TRAVAILL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PARI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JE (ATTENDRE) _____ PIERRE DEPUIS DEUX HEURE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J’ATTEND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PIERRE DEPUIS DEUX HEURE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1:00Z</dcterms:created>
  <dc:creator>Sarah</dc:creator>
  <dc:description/>
  <dc:language>en-US</dc:language>
  <cp:lastModifiedBy>Biega, Sarah</cp:lastModifiedBy>
  <dcterms:modified xsi:type="dcterms:W3CDTF">2012-09-28T18:18:57Z</dcterms:modified>
  <cp:revision>7</cp:revision>
  <dc:subject/>
  <dc:title>Les conjugaisons</dc:title>
</cp:coreProperties>
</file>